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F428-1A9C-4CE0-B42C-DEE64310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72F-0386-4E02-926D-B59FB952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8DC4-AF29-4234-987B-A1C34CA4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5E9-A548-4D02-B40E-8084EFA1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BC595-AC50-439A-AE3E-A6DA526F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6E8DC-2839-4D1D-9AF9-E5D83655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C9C77-058A-4B53-B915-D6B500C2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8769E-DDC8-46DD-A0C1-A7A50714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E8E10-4A6B-4E94-AB3E-6A8AF5D5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8DD9F-560B-4059-83CF-08E14D2E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5FC6D-BFE2-4E27-864D-B2584184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81AD-6E17-4548-A574-3C8DFC24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63AA9-37B8-4E8E-844A-16AA4A52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909BF-DC1D-43D3-A99F-87705531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1EBD9-B49B-4563-B141-BC6895F5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4879A-8376-460D-B02A-EB499EB0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FD4C5-1BD5-439C-8195-7E699F1A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A319-AB1C-49EE-ABBD-9976B1A7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A020-D37C-4BE3-A454-DB714F31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730D-2F17-4886-9CD9-ECA8F7D9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F8AB-027B-4FE2-B424-71D9351B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CC53-A5E7-49EB-82CD-067510D4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BCFD-0975-45FD-8309-00A9789A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B35-D3B8-4890-B5D9-2AC9A0D1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2B04-3E62-4413-A59E-935A2834CF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0C97-338E-42D2-A61F-E8D0B6F108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ar Be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ara Zah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400800" y="3124080"/>
            <a:ext cx="20811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 you think Polar Bears are cool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619440" y="2585880"/>
            <a:ext cx="240048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y live in the Arctic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ave fur to keep them wa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505320" y="3352680"/>
            <a:ext cx="18399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love to eat fish and se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go in the water for fo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352680" y="4419720"/>
            <a:ext cx="251460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ir babies are called cub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’re the largest bears in the 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86000" y="3124080"/>
            <a:ext cx="36576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y have big paw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cubs could grow to the size of a per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819520" y="3124080"/>
            <a:ext cx="255744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 hope you like learning about Polar Bears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095640" y="1693800"/>
            <a:ext cx="29527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9:22:14Z</dcterms:modified>
  <cp:revision>4</cp:revision>
  <dc:subject/>
  <dc:title>Animal Name</dc:title>
</cp:coreProperties>
</file>